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F7C-7D14-4CAA-A9C3-F45660BEDB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000-8EA2-4CA9-8416-B82225A9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55D-ABF2-41EC-8242-08316EB434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B2F-1E48-4247-B884-E8A25FDEA6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960C-4AFA-43E6-9BCC-BEF3D2E0F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385-5316-46A4-906B-D2928E1FA2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DB8-C55D-4023-AFDE-9BB9549EE0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8620-6112-4E7D-8B0E-4AA64DDF3A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EF7-0D58-49AC-8D49-66B87E3609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FD8-9497-4F8D-9845-D90B71924F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DD4-E098-45F6-A256-661863449C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F268-F30E-42D4-A89E-51ADA0D1A7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866-1C73-4BEE-8C7A-BA9765F64B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296C-D9D7-4518-9A22-132F109B14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ECD-A07D-489B-817F-7E2351F0D7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3E9-D729-4D13-99BC-21F7D9B8FD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C0D-2086-4414-9F73-2F6EA47F69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15E-713E-486F-961B-F832C5D981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AF8-CDC5-47B8-8713-10ABB279CA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0FE-8216-4F3B-8572-DDA6DF5576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a au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à la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à l’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4" name="Picture 6" descr="BANQUE-POPULAIRE-001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89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2590920" y="3581280"/>
            <a:ext cx="2361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1600200" y="19080"/>
            <a:ext cx="6858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rendre de 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gent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9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8" name="Picture 6" descr="LaPoste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19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3352680" y="2057400"/>
            <a:ext cx="190512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envoyer une lettr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0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32" name="Picture 5" descr="MPj04065610000[1]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600200" y="19080"/>
            <a:ext cx="716292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e la natatio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36" name="Picture 5" descr="MPj04000710000[1]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91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rtir en vacanc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048120" y="525780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ga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0" name="Picture 5" descr="MPj0400463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834696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1600200" y="19080"/>
            <a:ext cx="64008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u camp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371600" y="5418000"/>
            <a:ext cx="7010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terrain de camp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4" name="Picture 5" descr="MPj0407136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aller à un mariag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666880" y="5494320"/>
            <a:ext cx="42674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cathédral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8" name="Picture 5" descr="MPj04024190000[1]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735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1600200" y="19080"/>
            <a:ext cx="66294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ir des sculptur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048120" y="5257800"/>
            <a:ext cx="2971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musé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52" name="Picture 6" descr="sursade%20Lycee%20Louis%20Le%20Grand"/>
          <p:cNvPicPr/>
          <p:nvPr/>
        </p:nvPicPr>
        <p:blipFill>
          <a:blip r:embed="rId1"/>
          <a:stretch/>
        </p:blipFill>
        <p:spPr>
          <a:xfrm>
            <a:off x="1600200" y="9907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3352680" y="1828800"/>
            <a:ext cx="106704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sser un exame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8120" y="534204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lycé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57" name="Picture 6" descr="Auberge"/>
          <p:cNvPicPr/>
          <p:nvPr/>
        </p:nvPicPr>
        <p:blipFill>
          <a:blip r:embed="rId1"/>
          <a:stretch/>
        </p:blipFill>
        <p:spPr>
          <a:xfrm>
            <a:off x="1752480" y="914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1676520" y="4800600"/>
            <a:ext cx="190476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600200" y="19080"/>
            <a:ext cx="70102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yager en Europ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219320" y="5646600"/>
            <a:ext cx="74674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’ auberge de jeunes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ALLER À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Contexte: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s amis vont passer un weekend très occupé en faisant plusieurs activités différentes. Mais ils ne sont pas sûrs où il faut 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Dites à votre ami(e) OÙ il faut 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2" name="Picture 6" descr="BANQUE-POPULAIRE-001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89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590920" y="3581280"/>
            <a:ext cx="2361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600200" y="19080"/>
            <a:ext cx="6858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rendre de 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gent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2362320" y="5418000"/>
            <a:ext cx="39621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banqu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9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7" name="Picture 6" descr="LaPoste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19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3352680" y="2057400"/>
            <a:ext cx="190512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envoyer une lettr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048120" y="525780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pos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0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72" name="Picture 5" descr="MPj04065610000[1]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1600200" y="19080"/>
            <a:ext cx="716292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e la natatio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438280" y="5257800"/>
            <a:ext cx="4343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pisci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ez une fiche d’activité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Classez les endroits selon les règles du gen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Au travail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Allons-y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4" name="Picture 5" descr="MPj04000710000[1]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911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rtir en vacanc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7" name="Picture 5" descr="MPj0400463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834696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600200" y="19080"/>
            <a:ext cx="64008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u camp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0" name="Picture 5" descr="MPj0407136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aller à un mariag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3" name="Picture 5" descr="MPj04024190000[1]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735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600200" y="19080"/>
            <a:ext cx="66294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ir des sculptur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6" name="Picture 6" descr="sursade%20Lycee%20Louis%20Le%20Grand"/>
          <p:cNvPicPr/>
          <p:nvPr/>
        </p:nvPicPr>
        <p:blipFill>
          <a:blip r:embed="rId1"/>
          <a:stretch/>
        </p:blipFill>
        <p:spPr>
          <a:xfrm>
            <a:off x="1600200" y="9907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352680" y="1828800"/>
            <a:ext cx="106704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sser un exame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0" name="Picture 6" descr="Auberge"/>
          <p:cNvPicPr/>
          <p:nvPr/>
        </p:nvPicPr>
        <p:blipFill>
          <a:blip r:embed="rId1"/>
          <a:stretch/>
        </p:blipFill>
        <p:spPr>
          <a:xfrm>
            <a:off x="1752480" y="914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1676520" y="4800600"/>
            <a:ext cx="190476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600200" y="19080"/>
            <a:ext cx="70102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yager en Europ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9T00:43:13Z</dcterms:modified>
  <cp:revision>99</cp:revision>
  <dc:subject/>
  <dc:title>Allez, viens! – Level 2</dc:title>
</cp:coreProperties>
</file>